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4680"/>
            <a:ext cx="51404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4F82-097C-4E89-B5F8-06014C34F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C938-5E3E-4EE1-A648-1F510103F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fully flex and straighten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e’s test is done by placing the feet eight to 10 inches apart with the feet turned out. The patient squats down as far as possible while keeping the feet flat on the floor. This position tests the medial meniscus. Pain or a click are felt when the knee is bent about</a:t>
            </a:r>
            <a:br>
              <a:rPr sz="1200"/>
            </a:br>
            <a:r>
              <a:rPr b="0" lang="en-US" sz="1200" spc="-1" strike="noStrike">
                <a:solidFill>
                  <a:srgbClr val="000000"/>
                </a:solidFill>
                <a:latin typeface="Times New Roman"/>
              </a:rPr>
              <a:t>90 degrees. The test can be repeated with the feet turned in for the lateral meniscu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1088-F8F5-421E-A925-D4FE25EF4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ain directly over the patella. The patient may have pain with leg extension or be unable to extend the knee with a severe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ain over the distal femur and often will have a hemarthrosis.  Patients are often unable to be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esent with a knee effusion and pain.  May represent with an avulsion of the tibial attachment of the anterior cruciate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ain over the anterior tibia about 3 cm distal to the articular surface. In severe fractures, the patient may be unable to extend the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ften, patients present with a knee effusion, and tenderness will be present over the medial or lateral plateau.  Up to 30% of tibial plateau fractures are associated with knee ligamentous injuries (medial collateral or anterior cruciate ligaments with lateral plateau fractures, lateral collateral or posterior cruciate ligaments with medial plateau fractur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9FF1-3B80-4E27-B7E4-CA34CF788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The mechanism is usually a blow to the anterior thigh with an object or contact with another athlete or gear. Symptoms include painful anterior thigh, painful weightbearing, and unwillingness to flex the knee because of thigh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mechanism is sudden stretching or repeated eccentric contraction of the muscle causing pain and dysfunction immediately or 1-3 days later.Symptoms include pain with ambulation and knee flexion and inability to extend the knee if the quadriceps is rup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Usually more proximal than the tendon strai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51AA-96F7-47D0-B570-04F4E4338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ly defined end point on valgus stress testing indicates a grade 1 or grade 2 sprain, whereas complete medial instability indicates full rupture of the ligament (grade 3 spr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D813-2D7E-4A73-BC38-2054DD153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 diabetes mellitus, alcoholism, acquired immunodeficiency syndrome, or corticosteroid therap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146D-8BAE-4A68-8FF6-640A2B681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ing episodes suggests a meniscal tear :  popping at the time of injury suggests ligamentous injury, probably complete rupture of a ligament (third-degree tear) :  giving way are consistent with some degree of knee instability and may indicate patellar subluxation or ligamentous rupture (don’t forget about Quad weakness / PTF / pseudo-buck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3C06-DB97-40B7-913F-159909C27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onset (within two hours) of a large, tense effusion suggests rupture of the anterior cruciate ligament or fracture of the tibial plateau with resultant hemarthrosis, whereas slower onset (24 to 36 hours) of a mild to moderate effusion is consistent with meniscal injury or ligamentous sprain. Recurrent knee effusion after activity is consistent with meniscal injur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58F5-123A-4C1C-AA1A-C4449D0F5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s, supporting devices, and physical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ut, pseudogout, rheumatoid arthritis, or other degenerative joint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B807-132B-4250-8AF2-AA74A5FDA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warmth, exquisite tenderness, painful effusion, and marked pain with even slight range of motion of the knee joint is consistent with septic arthritis or acute inflammatory arthropat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joint effusion produces clear, straw-colored transudative fluid, as in a knee sprain or chronic meniscal inj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3BB0-A298-433B-8B3E-BD4CEC2EA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ailed history and focused physical examination can narrow possible causes. The patient's age and the anatomic site of the pain are two factors that can be important in achieving an accurate diagnosi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5A19-C07F-4CF9-865F-2ACEE8C19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ofemoral pain syndrome (PFPS) is the most common diagnosis in outpatients presenting with knee pain. Studies have shown PFPS to be the most common single diagnosis among runners and in sports medicine centers.1,2 Eleven percent of musculoskeletal complaints in the office setting are caused by anterior knee pain (which most commonly results from PFPS), and PFPS constitutes 16 to 25 percent of all injuries in runners.1,3 It is caused by imbalances in the forces controlling patellar tracking during knee flexion and extension, particularly with overloading of the j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ually does not represent true patellar instability but rather transient inhibition of the quadriceps because of pain or deconditi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A983-F89C-4F43-A357-273067C24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s point to subchondral sclero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rrow points to osteophy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heads point to joint narr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C80B-AA9D-4E0C-A2BE-6D9A44B12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birefringent, needle-shaped, urate crystals aspirated from a gouty tophus can be seen in this image taken with a polarizing microscope and a red compensator filter. The negatively birefringent crystals appear yellow when they lie parallel to the optical axis of the compensator and blue when perpendicular to i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E3C2-0173-4CAF-9749-CA9789CB4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how many of these possible DX can be made with an X-ra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42AF-4EAD-43EA-898F-816879D2F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we know flex the knee, but tight hamstrings can place more posterior force on the knee, which causes pressure between the patella and the femur to increas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509D-2532-4D23-8C09-2B7A5F557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934560" y="4414680"/>
            <a:ext cx="5140440" cy="418464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s: Femur with distal medial and lateral epicondyles, Patella, Tibia with medial and lateral condyles, Tibial tubical - attachment of the quads and the Fibula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iceps (made up of 4 muscles). They form a tendon that envelops the patella. Below the patella it is call the patellar tendon and it inserts into the tibial tubical, anchoring the quads to the tibia. The quadriceps cause knee extensio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Found in the back of the thigh, they cause flexion of the kne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Knee Joi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ments: (hold bones together)</a:t>
            </a:r>
            <a:br>
              <a:rPr sz="1200"/>
            </a:br>
            <a:r>
              <a:rPr b="0" lang="en-US" sz="1200" spc="-1" strike="noStrike">
                <a:solidFill>
                  <a:srgbClr val="000000"/>
                </a:solidFill>
                <a:latin typeface="Times New Roman"/>
              </a:rPr>
              <a:t>Collateral Ligaments - lateral and medial</a:t>
            </a:r>
            <a:br>
              <a:rPr sz="1200"/>
            </a:br>
            <a:r>
              <a:rPr b="0" lang="en-US" sz="1200" spc="-1" strike="noStrike">
                <a:solidFill>
                  <a:srgbClr val="000000"/>
                </a:solidFill>
                <a:latin typeface="Times New Roman"/>
              </a:rPr>
              <a:t>Cruciate Ligaments - Anterior and posterio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isci: Distributes weight over the surface of the joint and functions as shock absorbers or cushion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Our kneecap rides in the groove between the femoral condy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sa: fibrous sacs of fluid that reduce friction between bones, ligaments and tend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F67A-1CA3-456B-8538-D2AC6838C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blow to the knee can cause serious injury. Anterior force applied to the proximal tibia with the knee in flexion (e.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nee hits the dashboard in an automobile accident) can cause injury to the posterior cruciate ligament or patella fracture. The medial collateral ligament is most commonly injured as a result of direct lateral force to the knee (e.g., clipping in football); this force creates a valgus load on the knee joint and can result in rupture of the medial collateral ligament. Conversely, a medial blow that creates a varus load can injure the lateral collateral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ntact forces also are an important cause of knee injury. Quick stops and sharp cuts or turns create significant deceleration forces that can sprain or rupture the anterior cruciate ligament. Hyperextension can result in injury to the anterior cruciate ligament or posterior cruciate ligament. Sudden twisting or pivoting motions create shear forces that can injure the meniscus. A combination of forces can occur simultaneously, causing injury to multiple struct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226E-DD2B-4FFA-9343-1216F07D6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tibial tubercle, patellar tendon, quadriceps tendon, anterolateral and anteromedial joint line, medial joint line, and lateral joint 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 helps ID joint lines, normal range of motion: extension, zero degrees; flexion, 135 degre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CA864-949E-407C-98DC-0263093E7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6486F-68A6-48E7-AB77-9A5C086C2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853E6-D848-42E4-B540-8286F3363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8C917-875A-4E0A-B175-D1EBEB302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D236B-4EE4-4CDA-ACC4-1969A3166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39689-52EF-4345-BAA4-19BB88DC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A9A48-5B0C-4DFA-A629-B8089AD69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3D37C-56D0-4A22-8B86-AA8437E2D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40121-E99B-4C29-BA31-A1E2C0D13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27A1-E8CF-4A9F-B94A-FB79441E8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5877-8994-4116-9CA9-E76838514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62934-F5CE-4301-A3E6-0D30D3FC5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ECDA-CF15-4E10-9C4B-F9730F9F8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nitial Evaluation and Treatment of Knee Pain in Adult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2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uciate liga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L</a:t>
            </a:r>
            <a:br>
              <a:rPr sz="3200"/>
            </a:br>
            <a:r>
              <a:rPr b="0" lang="en-US" sz="3200" spc="-1" strike="noStrike">
                <a:solidFill>
                  <a:srgbClr val="000000"/>
                </a:solidFill>
                <a:latin typeface="Times New Roman"/>
              </a:rPr>
              <a:t>&gt;Anterior drawer</a:t>
            </a:r>
            <a:br>
              <a:rPr sz="3200"/>
            </a:br>
            <a:r>
              <a:rPr b="0" lang="en-US" sz="3200" spc="-1" strike="noStrike">
                <a:solidFill>
                  <a:srgbClr val="000000"/>
                </a:solidFill>
                <a:latin typeface="Times New Roman"/>
              </a:rPr>
              <a:t>&gt;Lachman’s</a:t>
            </a:r>
            <a:br>
              <a:rPr sz="3200"/>
            </a:br>
            <a:r>
              <a:rPr b="0" lang="en-US" sz="3200" spc="-1" strike="noStrike">
                <a:solidFill>
                  <a:srgbClr val="000000"/>
                </a:solidFill>
                <a:latin typeface="Times New Roman"/>
              </a:rPr>
              <a:t>&gt;Pivot Shi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CL</a:t>
            </a:r>
            <a:br>
              <a:rPr sz="3200"/>
            </a:br>
            <a:r>
              <a:rPr b="0" lang="en-US" sz="3200" spc="-1" strike="noStrike">
                <a:solidFill>
                  <a:srgbClr val="000000"/>
                </a:solidFill>
                <a:latin typeface="Times New Roman"/>
              </a:rPr>
              <a:t>&gt;Posterior sag sign</a:t>
            </a:r>
            <a:br>
              <a:rPr sz="3200"/>
            </a:br>
            <a:r>
              <a:rPr b="0" lang="en-US" sz="3200" spc="-1" strike="noStrike">
                <a:solidFill>
                  <a:srgbClr val="000000"/>
                </a:solidFill>
                <a:latin typeface="Times New Roman"/>
              </a:rPr>
              <a:t>&gt;Posterior drawer t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teral ligamen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 Valg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L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o uninjured s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and 30 degrees of flex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i</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line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s test</a:t>
            </a:r>
            <a:br>
              <a:rPr sz="3200"/>
            </a:br>
            <a:r>
              <a:rPr b="0" lang="en-US" sz="3200" spc="-1" strike="noStrike">
                <a:solidFill>
                  <a:srgbClr val="000000"/>
                </a:solidFill>
                <a:latin typeface="Times New Roman"/>
              </a:rPr>
              <a:t>&gt;Lateral meniscus – IR tibia + valgus stress</a:t>
            </a:r>
            <a:br>
              <a:rPr sz="3200"/>
            </a:br>
            <a:r>
              <a:rPr b="0" lang="en-US" sz="3200" spc="-1" strike="noStrike">
                <a:solidFill>
                  <a:srgbClr val="000000"/>
                </a:solidFill>
                <a:latin typeface="Times New Roman"/>
              </a:rPr>
              <a:t>&gt;Medial meniscus – ER tibia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e's test – May be the most sen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 (X-ray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ateral AP Weight be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chant’s 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Fractur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moral condy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eminenc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tuberc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plateau fra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iceps Injuri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contus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tendon sprain / rup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muscle partial te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hamstring injuries tend to be more prox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calf injuries tend to be more dis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contact decel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and sharp turn – Anterior displacement of tibia causes sprain or rupture of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op” felt followed by pain causing patient to cease activity with swelling within 2 h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utely moderate to severe joint effu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ing and hemearthrosis limits testing in the acute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hman t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 – tibial spine avul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I</a:t>
            </a:r>
            <a:endParaRPr b="0" lang="en-US" sz="2400" spc="-1" strike="noStrike">
              <a:solidFill>
                <a:srgbClr val="000000"/>
              </a:solidFill>
              <a:latin typeface="Times New Roman"/>
            </a:endParaRPr>
          </a:p>
        </p:txBody>
      </p:sp>
      <p:pic>
        <p:nvPicPr>
          <p:cNvPr id="83"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CL &amp; LC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more common than LC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from Valgus and varus stress respective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ness at respective joint l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gus/varus stress at 0 &amp; 30</a:t>
            </a:r>
            <a:r>
              <a:rPr b="0" lang="en-US" sz="3200" spc="-1" strike="noStrike">
                <a:solidFill>
                  <a:srgbClr val="000000"/>
                </a:solidFill>
                <a:latin typeface="Times New Roman"/>
                <a:ea typeface="Times New Roman"/>
              </a:rPr>
              <a:t>º reproduc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al tea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en twisting injury or a prolonged degenerativ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t locking with squatting / twi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 joint 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 atro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ing / Ege’s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decision and start treat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ee / Shoulder anatom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ain patter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encountered caus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examination skil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diagno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tic arthriti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mmon in immune compromi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rupt onset of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swollen, and exquisitely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motion causes INTENS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a:t>
            </a:r>
            <a:br>
              <a:rPr sz="3200"/>
            </a:br>
            <a:r>
              <a:rPr b="0" lang="en-US" sz="3200" spc="-1" strike="noStrike">
                <a:solidFill>
                  <a:srgbClr val="000000"/>
                </a:solidFill>
                <a:latin typeface="Times New Roman"/>
              </a:rPr>
              <a:t>-WBC &gt; 50,000/mm</a:t>
            </a:r>
            <a:r>
              <a:rPr b="0" lang="en-US" sz="3200" spc="-1" strike="noStrike" baseline="30000">
                <a:solidFill>
                  <a:srgbClr val="000000"/>
                </a:solidFill>
                <a:latin typeface="Times New Roman"/>
              </a:rPr>
              <a:t>3</a:t>
            </a:r>
            <a:br>
              <a:rPr sz="3200"/>
            </a:br>
            <a:r>
              <a:rPr b="0" lang="en-US" sz="3200" spc="-1" strike="noStrike" baseline="30000">
                <a:solidFill>
                  <a:srgbClr val="000000"/>
                </a:solidFill>
                <a:latin typeface="Times New Roman"/>
              </a:rPr>
              <a:t>-</a:t>
            </a:r>
            <a:r>
              <a:rPr b="0" lang="en-US" sz="3200" spc="-1" strike="noStrike">
                <a:solidFill>
                  <a:srgbClr val="000000"/>
                </a:solidFill>
                <a:latin typeface="Times New Roman"/>
              </a:rPr>
              <a:t> Gram stain – Staph, Strep, Gonorrhe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od – Elevated WBC, ESR, C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cont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c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le / tendon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al inju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cerbation of chronic knee p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goal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ze kn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 further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ain full 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no ha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 / RI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Onset (Questions I ask)</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you doing when pain first notic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inju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all the time or come and g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ll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it better / worse (Theatre sig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s?  (Rehab, bracing, m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t &amp; Sho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assessment</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supine and knee in exten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 in suprapatellar pou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ing of patell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pitu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MO ton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apprehension tes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r gri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et &amp; Sho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plan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ior tibia tendon dys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dw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 so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s 3 views</a:t>
            </a:r>
            <a:br>
              <a:rPr sz="3200"/>
            </a:br>
            <a:r>
              <a:rPr b="0" lang="en-US" sz="3200" spc="-1" strike="noStrike">
                <a:solidFill>
                  <a:srgbClr val="000000"/>
                </a:solidFill>
                <a:latin typeface="Times New Roman"/>
              </a:rPr>
              <a:t>&gt;AP</a:t>
            </a:r>
            <a:br>
              <a:rPr sz="3200"/>
            </a:br>
            <a:r>
              <a:rPr b="0" lang="en-US" sz="3200" spc="-1" strike="noStrike">
                <a:solidFill>
                  <a:srgbClr val="000000"/>
                </a:solidFill>
                <a:latin typeface="Times New Roman"/>
              </a:rPr>
              <a:t>&gt;Lateral</a:t>
            </a:r>
            <a:br>
              <a:rPr sz="3200"/>
            </a:br>
            <a:r>
              <a:rPr b="0" lang="en-US" sz="3200" spc="-1" strike="noStrike">
                <a:solidFill>
                  <a:srgbClr val="000000"/>
                </a:solidFill>
                <a:latin typeface="Times New Roman"/>
              </a:rPr>
              <a:t>&gt;Merchant’s or Sunr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eens, add notch or tunnel vie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septic arthritis</a:t>
            </a:r>
            <a:br>
              <a:rPr sz="2800"/>
            </a:br>
            <a:r>
              <a:rPr b="0" lang="en-US" sz="2800" spc="-1" strike="noStrike">
                <a:solidFill>
                  <a:srgbClr val="000000"/>
                </a:solidFill>
                <a:latin typeface="Times New Roman"/>
              </a:rPr>
              <a:t>&gt;Blood – CBC-d, ESR, CRP</a:t>
            </a:r>
            <a:br>
              <a:rPr sz="2800"/>
            </a:br>
            <a:r>
              <a:rPr b="0" lang="en-US" sz="2800" spc="-1" strike="noStrike">
                <a:solidFill>
                  <a:srgbClr val="000000"/>
                </a:solidFill>
                <a:latin typeface="Times New Roman"/>
              </a:rPr>
              <a:t>&gt;Joint fluid</a:t>
            </a:r>
            <a:br>
              <a:rPr sz="2800"/>
            </a:br>
            <a:r>
              <a:rPr b="0" lang="en-US" sz="2800" spc="-1" strike="noStrike">
                <a:solidFill>
                  <a:srgbClr val="000000"/>
                </a:solidFill>
                <a:latin typeface="Times New Roman"/>
              </a:rPr>
              <a:t>-cell count with differential</a:t>
            </a:r>
            <a:br>
              <a:rPr sz="2800"/>
            </a:br>
            <a:r>
              <a:rPr b="0" lang="en-US" sz="2800" spc="-1" strike="noStrike">
                <a:solidFill>
                  <a:srgbClr val="000000"/>
                </a:solidFill>
                <a:latin typeface="Times New Roman"/>
              </a:rPr>
              <a:t>-glucose &amp; protein</a:t>
            </a:r>
            <a:br>
              <a:rPr sz="2800"/>
            </a:br>
            <a:r>
              <a:rPr b="0" lang="en-US" sz="2800" spc="-1" strike="noStrike">
                <a:solidFill>
                  <a:srgbClr val="000000"/>
                </a:solidFill>
                <a:latin typeface="Times New Roman"/>
              </a:rPr>
              <a:t>-bacterial cul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joint effu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earthro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glob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losure Slid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levant financial relationship exists to potential commercial bi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l Diagnosi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pain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l plica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anserine burs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uma – ligament sprains or meniscal t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ic arthrit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er adul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teoarthr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stal induced 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pseudog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liteal cyst (Baker’s cy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syndrome (chondromalaci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diagnosis in outpatients presenting with knee 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rior pain - mild to moderate seve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ater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localized “Circle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Knee giving 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nal common path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avated by weight bearing and relieved by 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ystemic symptoms, morning stiff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isodes of acute synov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reveals decreased ROM, crepitus, mild joint effusion, possibly palpable osteophy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s – Wt bearing AP, lateral, Merch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pace narrow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hondral bony sclero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stic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phyt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stal induced inflammatory arthropath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 Sodium urate crystals precipitate and cause inflammatory respon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eudogout – Calcium pyrophosph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 Red, warm, swollen,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 </a:t>
            </a:r>
            <a:br>
              <a:rPr sz="3200"/>
            </a:br>
            <a:r>
              <a:rPr b="0" lang="en-US" sz="3200" spc="-1" strike="noStrike">
                <a:solidFill>
                  <a:srgbClr val="000000"/>
                </a:solidFill>
                <a:latin typeface="Times New Roman"/>
              </a:rPr>
              <a:t>WBC – 2,000 to 75,000 per mm</a:t>
            </a:r>
            <a:r>
              <a:rPr b="0" lang="en-US" sz="3200" spc="-1" strike="noStrike" baseline="30000">
                <a:solidFill>
                  <a:srgbClr val="000000"/>
                </a:solidFill>
                <a:latin typeface="Times New Roman"/>
              </a:rPr>
              <a:t>3</a:t>
            </a:r>
            <a:br>
              <a:rPr sz="3200"/>
            </a:br>
            <a:r>
              <a:rPr b="0" lang="en-US" sz="3200" spc="-1" strike="noStrike">
                <a:solidFill>
                  <a:srgbClr val="000000"/>
                </a:solidFill>
                <a:latin typeface="Times New Roman"/>
              </a:rPr>
              <a:t>Protein – high (&gt;32g/dL)</a:t>
            </a:r>
            <a:br>
              <a:rPr sz="3200"/>
            </a:br>
            <a:r>
              <a:rPr b="0" lang="en-US" sz="3200" spc="-1" strike="noStrike">
                <a:solidFill>
                  <a:srgbClr val="000000"/>
                </a:solidFill>
                <a:latin typeface="Times New Roman"/>
              </a:rPr>
              <a:t>Glucose – 75% of ser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ut Crystals </a:t>
            </a:r>
            <a:endParaRPr b="0" lang="en-US" sz="4400" spc="-1" strike="noStrike">
              <a:solidFill>
                <a:srgbClr val="000000"/>
              </a:solidFill>
              <a:latin typeface="Times New Roman"/>
            </a:endParaRPr>
          </a:p>
        </p:txBody>
      </p:sp>
      <p:pic>
        <p:nvPicPr>
          <p:cNvPr id="122" name="Picture 3" descr=""/>
          <p:cNvPicPr/>
          <p:nvPr/>
        </p:nvPicPr>
        <p:blipFill>
          <a:blip r:embed="rId1"/>
          <a:stretch/>
        </p:blipFill>
        <p:spPr>
          <a:xfrm>
            <a:off x="685800" y="1981080"/>
            <a:ext cx="7772400" cy="4114800"/>
          </a:xfrm>
          <a:prstGeom prst="rect">
            <a:avLst/>
          </a:prstGeom>
          <a:ln w="0">
            <a:noFill/>
          </a:ln>
        </p:spPr>
      </p:pic>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gout – Calcium pyrophosphate</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PD crystals in the flui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omboid or rod-shaped, weakly positively birefringent crystals on polarized light microscopy of synovial fluid </a:t>
            </a:r>
            <a:endParaRPr b="0" lang="en-US" sz="2800" spc="-1" strike="noStrike">
              <a:solidFill>
                <a:srgbClr val="000000"/>
              </a:solidFill>
              <a:latin typeface="Times New Roman"/>
            </a:endParaRPr>
          </a:p>
        </p:txBody>
      </p:sp>
      <p:pic>
        <p:nvPicPr>
          <p:cNvPr id="126"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l plica syndrome</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ly overlooked source of 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t joint synovium inflamed with repetitive overus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er, mobile nodularity medial aspect of knee just anterior to the joint lin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e with repetitive flexion and extension</a:t>
            </a:r>
            <a:endParaRPr b="0" lang="en-US" sz="2400" spc="-1" strike="noStrike">
              <a:solidFill>
                <a:srgbClr val="000000"/>
              </a:solidFill>
              <a:latin typeface="Times New Roman"/>
            </a:endParaRPr>
          </a:p>
        </p:txBody>
      </p:sp>
      <p:pic>
        <p:nvPicPr>
          <p:cNvPr id="129"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s anserine bursitis</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knee p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e with repetitive flexion and exten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a:t>
            </a:r>
            <a:br>
              <a:rPr sz="2800"/>
            </a:br>
            <a:r>
              <a:rPr b="0" lang="en-US" sz="2800" spc="-1" strike="noStrike">
                <a:solidFill>
                  <a:srgbClr val="000000"/>
                </a:solidFill>
                <a:latin typeface="Times New Roman"/>
              </a:rPr>
              <a:t>&gt;No effusion</a:t>
            </a:r>
            <a:br>
              <a:rPr sz="2800"/>
            </a:br>
            <a:r>
              <a:rPr b="0" lang="en-US" sz="2800" spc="-1" strike="noStrike">
                <a:solidFill>
                  <a:srgbClr val="000000"/>
                </a:solidFill>
                <a:latin typeface="Times New Roman"/>
              </a:rPr>
              <a:t>&gt;tenderness just post. &amp; distal to med jt line</a:t>
            </a:r>
            <a:br>
              <a:rPr sz="2800"/>
            </a:br>
            <a:r>
              <a:rPr b="0" lang="en-US" sz="2800" spc="-1" strike="noStrike">
                <a:solidFill>
                  <a:srgbClr val="000000"/>
                </a:solidFill>
                <a:latin typeface="Times New Roman"/>
              </a:rPr>
              <a:t>&gt;Pain reproduced by valgus stress or resisted knee flexion</a:t>
            </a:r>
            <a:endParaRPr b="0" lang="en-US" sz="2800" spc="-1" strike="noStrike">
              <a:solidFill>
                <a:srgbClr val="000000"/>
              </a:solidFill>
              <a:latin typeface="Times New Roman"/>
            </a:endParaRPr>
          </a:p>
        </p:txBody>
      </p:sp>
      <p:pic>
        <p:nvPicPr>
          <p:cNvPr id="132"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culoskeletal Number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2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1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er 1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400" spc="-1" strike="noStrike">
                <a:solidFill>
                  <a:srgbClr val="000000"/>
                </a:solidFill>
                <a:latin typeface="Times New Roman"/>
              </a:rPr>
              <a:t>Urwin M, Symmons D, Alison T, et al. Estimating the burden of musculoskeletal disorders in the community: the comparative prevalence of symptoms at different anatomical sites, and the relation to social deprivation. Ann Rheum Dis. 1998;57(11):649-65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d to moderate pain in popliteal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synovial cy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 response to preceding trau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omedial aspect at the level of the gastrocnemiosemimembranous burs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lpable fullness posteromed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 may be po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ve diagnosis of a popliteal cyst may be made with arthrography, ultrasonography, CT scanning, or, less commonly, MRI </a:t>
            </a:r>
            <a:endParaRPr b="0" lang="en-US" sz="2800" spc="-1" strike="noStrike">
              <a:solidFill>
                <a:srgbClr val="000000"/>
              </a:solidFill>
              <a:latin typeface="Times New Roman"/>
            </a:endParaRPr>
          </a:p>
        </p:txBody>
      </p:sp>
      <p:pic>
        <p:nvPicPr>
          <p:cNvPr id="137"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llofemoral pain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stal induced inflammatory arthropath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ut, pseudogou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uma – ligament sprains or meniscal tea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plica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 anserine burs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ic 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liteal cyst (Baker’s cyst)</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oids (Oral or injectabl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role</a:t>
            </a:r>
            <a:r>
              <a:rPr b="0" lang="en-US" sz="4400" spc="-1" strike="noStrike">
                <a:solidFill>
                  <a:srgbClr val="000000"/>
                </a:solidFill>
                <a:latin typeface="Times New Roman"/>
              </a:rPr>
              <a:t> </a:t>
            </a:r>
            <a:r>
              <a:rPr b="1" lang="en-US" sz="4400" spc="-1" strike="noStrike">
                <a:solidFill>
                  <a:srgbClr val="000000"/>
                </a:solidFill>
                <a:latin typeface="Times New Roman"/>
              </a:rPr>
              <a:t>of</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hysician</a:t>
            </a:r>
            <a:r>
              <a:rPr b="0" lang="en-US" sz="4400" spc="-1" strike="noStrike">
                <a:solidFill>
                  <a:srgbClr val="000000"/>
                </a:solidFill>
                <a:latin typeface="Times New Roman"/>
              </a:rPr>
              <a:t> </a:t>
            </a:r>
            <a:r>
              <a:rPr b="1" lang="en-US" sz="4400" spc="-1" strike="noStrike">
                <a:solidFill>
                  <a:srgbClr val="000000"/>
                </a:solidFill>
                <a:latin typeface="Times New Roman"/>
              </a:rPr>
              <a:t>is</a:t>
            </a:r>
            <a:r>
              <a:rPr b="0" lang="en-US" sz="4400" spc="-1" strike="noStrike">
                <a:solidFill>
                  <a:srgbClr val="000000"/>
                </a:solidFill>
                <a:latin typeface="Times New Roman"/>
              </a:rPr>
              <a:t> </a:t>
            </a:r>
            <a:r>
              <a:rPr b="1" lang="en-US" sz="4400" spc="-1" strike="noStrike">
                <a:solidFill>
                  <a:srgbClr val="000000"/>
                </a:solidFill>
                <a:latin typeface="Times New Roman"/>
              </a:rPr>
              <a:t>to</a:t>
            </a:r>
            <a:r>
              <a:rPr b="0" lang="en-US" sz="4400" spc="-1" strike="noStrike">
                <a:solidFill>
                  <a:srgbClr val="000000"/>
                </a:solidFill>
                <a:latin typeface="Times New Roman"/>
              </a:rPr>
              <a:t> </a:t>
            </a:r>
            <a:r>
              <a:rPr b="1" lang="en-US" sz="4400" spc="-1" strike="noStrike">
                <a:solidFill>
                  <a:srgbClr val="000000"/>
                </a:solidFill>
                <a:latin typeface="Times New Roman"/>
              </a:rPr>
              <a:t>entertain</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atient</a:t>
            </a:r>
            <a:r>
              <a:rPr b="0" lang="en-US" sz="4400" spc="-1" strike="noStrike">
                <a:solidFill>
                  <a:srgbClr val="000000"/>
                </a:solidFill>
                <a:latin typeface="Times New Roman"/>
              </a:rPr>
              <a:t> </a:t>
            </a:r>
            <a:r>
              <a:rPr b="1" lang="en-US" sz="4400" spc="-1" strike="noStrike">
                <a:solidFill>
                  <a:srgbClr val="000000"/>
                </a:solidFill>
                <a:latin typeface="Times New Roman"/>
              </a:rPr>
              <a:t>while</a:t>
            </a:r>
            <a:r>
              <a:rPr b="0" lang="en-US" sz="4400" spc="-1" strike="noStrike">
                <a:solidFill>
                  <a:srgbClr val="000000"/>
                </a:solidFill>
                <a:latin typeface="Times New Roman"/>
              </a:rPr>
              <a:t> </a:t>
            </a:r>
            <a:r>
              <a:rPr b="1" lang="en-US" sz="4400" spc="-1" strike="noStrike">
                <a:solidFill>
                  <a:srgbClr val="000000"/>
                </a:solidFill>
                <a:latin typeface="Times New Roman"/>
              </a:rPr>
              <a:t>Nature</a:t>
            </a:r>
            <a:r>
              <a:rPr b="0" lang="en-US" sz="4400" spc="-1" strike="noStrike">
                <a:solidFill>
                  <a:srgbClr val="000000"/>
                </a:solidFill>
                <a:latin typeface="Times New Roman"/>
              </a:rPr>
              <a:t> </a:t>
            </a:r>
            <a:r>
              <a:rPr b="1" lang="en-US" sz="4400" spc="-1" strike="noStrike">
                <a:solidFill>
                  <a:srgbClr val="000000"/>
                </a:solidFill>
                <a:latin typeface="Times New Roman"/>
              </a:rPr>
              <a:t>takes</a:t>
            </a:r>
            <a:r>
              <a:rPr b="0" lang="en-US" sz="4400" spc="-1" strike="noStrike">
                <a:solidFill>
                  <a:srgbClr val="000000"/>
                </a:solidFill>
                <a:latin typeface="Times New Roman"/>
              </a:rPr>
              <a:t> </a:t>
            </a:r>
            <a:r>
              <a:rPr b="1" lang="en-US" sz="4400" spc="-1" strike="noStrike">
                <a:solidFill>
                  <a:srgbClr val="000000"/>
                </a:solidFill>
                <a:latin typeface="Times New Roman"/>
              </a:rPr>
              <a:t>its</a:t>
            </a:r>
            <a:r>
              <a:rPr b="0" lang="en-US" sz="4400" spc="-1" strike="noStrike">
                <a:solidFill>
                  <a:srgbClr val="000000"/>
                </a:solidFill>
                <a:latin typeface="Times New Roman"/>
              </a:rPr>
              <a:t> </a:t>
            </a:r>
            <a:r>
              <a:rPr b="1" lang="en-US" sz="4400" spc="-1" strike="noStrike">
                <a:solidFill>
                  <a:srgbClr val="000000"/>
                </a:solidFill>
                <a:latin typeface="Times New Roman"/>
              </a:rPr>
              <a:t>cours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t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Anatomy</a:t>
            </a:r>
            <a:endParaRPr b="0" lang="en-US" sz="4400" spc="-1" strike="noStrike">
              <a:solidFill>
                <a:srgbClr val="000000"/>
              </a:solidFill>
              <a:latin typeface="Times New Roman"/>
            </a:endParaRPr>
          </a:p>
        </p:txBody>
      </p:sp>
      <p:pic>
        <p:nvPicPr>
          <p:cNvPr id="57" name="Picture 3" descr=""/>
          <p:cNvPicPr/>
          <p:nvPr/>
        </p:nvPicPr>
        <p:blipFill>
          <a:blip r:embed="rId1"/>
          <a:stretch/>
        </p:blipFill>
        <p:spPr>
          <a:xfrm>
            <a:off x="685800" y="1981080"/>
            <a:ext cx="3809880" cy="4114800"/>
          </a:xfrm>
          <a:prstGeom prst="rect">
            <a:avLst/>
          </a:prstGeom>
          <a:ln w="0">
            <a:noFill/>
          </a:ln>
        </p:spPr>
      </p:pic>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a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is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Cour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sm of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characteris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ute Onset (Questions I ask)</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of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continue activity immediately after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bear weight since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usion / bruis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lower extremity inju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ed Physical Exam</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pection and palpation / RO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ythema, swelling, bruising, discol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u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warmth, 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53:28Z</dcterms:created>
  <dc:creator> </dc:creator>
  <dc:description/>
  <dc:language>en-US</dc:language>
  <cp:lastModifiedBy>HCMARTINEZ</cp:lastModifiedBy>
  <dcterms:modified xsi:type="dcterms:W3CDTF">2009-04-29T19:16:00Z</dcterms:modified>
  <cp:revision>18</cp:revision>
  <dc:subject/>
  <dc:title>Knee pain</dc:title>
</cp:coreProperties>
</file>